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984C-8E2C-4995-9BB4-C411DCC4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AEB1-90CF-4EBB-8DF0-9C3DBBE57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F89F-3C3B-4AF2-8238-0B6B8194E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ata  26.5  67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te   14.1  60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dazi 18.4  22.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98F8-764D-4F44-8D21-94DC72C01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05FB-F402-4EAC-B231-32B0C94B3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018-0761-400F-BEC0-70A92034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625-5E4D-490E-A1E9-71777596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115-8704-42E4-9E6C-81E34AD4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7F1-B749-4789-B116-8EB9CB6C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6AE-3DBD-4AD4-B943-87300D45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1FB-E8C0-4310-BFDD-6C25DB68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C28-A8B7-424D-BBBA-0E0083F5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A27-BF55-42F7-BE78-B82AE5FF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F7F-2798-45EB-BC06-C5ACB0A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D00-0D72-4E24-AF97-44525914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967-B600-4B81-8478-54D589AC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FF2-6666-4302-AE62-839D4A9D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B5AC-F9E0-4256-82FF-8F7F6F9884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4440" y="762120"/>
            <a:ext cx="4846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Lucid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SIMLEZA SITE CHARACTERISATION AND MONITORING &amp; EVALUA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609480" y="5562720"/>
            <a:ext cx="3762360" cy="103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049440" y="571500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ZA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and Evalu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05120"/>
          <a:ext cx="8610480" cy="4495680"/>
        </p:xfrm>
        <a:graphic>
          <a:graphicData uri="http://schemas.openxmlformats.org/drawingml/2006/table">
            <a:tbl>
              <a:tblPr/>
              <a:tblGrid>
                <a:gridCol w="3789360"/>
                <a:gridCol w="2409840"/>
                <a:gridCol w="2411280"/>
              </a:tblGrid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 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Prevalence of stunted children under five years of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 FTF Indicator Name: Prevalence of underweight children under 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 : Prevalence of underweight wom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153280" cy="4554720"/>
        </p:xfrm>
        <a:graphic>
          <a:graphicData uri="http://schemas.openxmlformats.org/drawingml/2006/table">
            <a:tbl>
              <a:tblPr/>
              <a:tblGrid>
                <a:gridCol w="3581280"/>
                <a:gridCol w="1981440"/>
                <a:gridCol w="2590560"/>
              </a:tblGrid>
              <a:tr h="47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alence of wasted children under five years of ag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capita expenditures of USG targeted beneficiari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mmyt &amp;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2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l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" y="1066680"/>
          <a:ext cx="8763120" cy="5607000"/>
        </p:xfrm>
        <a:graphic>
          <a:graphicData uri="http://schemas.openxmlformats.org/drawingml/2006/table">
            <a:tbl>
              <a:tblPr/>
              <a:tblGrid>
                <a:gridCol w="4724280"/>
                <a:gridCol w="2133720"/>
                <a:gridCol w="1905120"/>
              </a:tblGrid>
              <a:tr h="29232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84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total production per hectare) for targeted commod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1. 2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new technologies or management practices in one of the following phases of development as a result of USG assistan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1: 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2: 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3: 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2,3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farmers or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1,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individuals who have received USG supported short-term agricultural sector productivity or food security training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10FA-DE0C-4FC7-A402-DC903FA7278E}" type="slidenum">
              <a:rPr b="0" lang="en-US" sz="18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read basket of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main crops contributes a significant share to national production – maize (22%); G/nut (30%): cotton (69%);  sunflower (7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ct spatial differences based on bio physical conditions (agro-ecological; topography ) and economic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Basic Household Characterist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2057400"/>
          <a:ext cx="8208720" cy="3559320"/>
        </p:xfrm>
        <a:graphic>
          <a:graphicData uri="http://schemas.openxmlformats.org/drawingml/2006/table">
            <a:tbl>
              <a:tblPr/>
              <a:tblGrid>
                <a:gridCol w="3255840"/>
                <a:gridCol w="1219320"/>
                <a:gridCol w="1152360"/>
                <a:gridCol w="1219320"/>
                <a:gridCol w="1361880"/>
              </a:tblGrid>
              <a:tr h="892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 (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usehol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ducation (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Farm size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 (2.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8 (2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 (4.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8 (3.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vestock Ownership (TL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rming as occupation 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 Density in  SIMLEZA survey districts in eastern Zambi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G:\CIMMYT\SIMLEZA\Maps revised\Poplation_eastern province ZAM.jpg"/>
          <p:cNvPicPr/>
          <p:nvPr/>
        </p:nvPicPr>
        <p:blipFill>
          <a:blip r:embed="rId2"/>
          <a:stretch/>
        </p:blipFill>
        <p:spPr>
          <a:xfrm>
            <a:off x="1849320" y="1143000"/>
            <a:ext cx="57708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oil Types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Munyaradzi\Documents\Planning meeting Malawi 2012\Cimmyt\Simleza\ZAMBIA MAP\Zambia_soils.jpg"/>
          <p:cNvPicPr/>
          <p:nvPr/>
        </p:nvPicPr>
        <p:blipFill>
          <a:blip r:embed="rId1"/>
          <a:stretch/>
        </p:blipFill>
        <p:spPr>
          <a:xfrm>
            <a:off x="3733920" y="1828800"/>
            <a:ext cx="480060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95200" y="1676520"/>
            <a:ext cx="343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hysically Ferralsols are good soils, well drained and with a good structure and deep profil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w capacity to retain and supply nutrients to pla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rralsols have low pHs (&lt; 5.2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ficient in bases (Ca, Mg, K) which requires lime appl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mean annual rainfall distribution of Zambia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LE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440" y="165744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9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G:\CIMMYT\SIMLEZA\Maps revised\Zamb_rainfall-2.jpg"/>
          <p:cNvPicPr/>
          <p:nvPr/>
        </p:nvPicPr>
        <p:blipFill>
          <a:blip r:embed="rId2"/>
          <a:stretch/>
        </p:blipFill>
        <p:spPr>
          <a:xfrm>
            <a:off x="533520" y="1523880"/>
            <a:ext cx="61894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  <a:ea typeface="Calibri"/>
              </a:rPr>
              <a:t>Maize &amp; Legume Production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752480"/>
          <a:ext cx="8208720" cy="5440320"/>
        </p:xfrm>
        <a:graphic>
          <a:graphicData uri="http://schemas.openxmlformats.org/drawingml/2006/table">
            <a:tbl>
              <a:tblPr/>
              <a:tblGrid>
                <a:gridCol w="3200400"/>
                <a:gridCol w="1274760"/>
                <a:gridCol w="1152360"/>
                <a:gridCol w="1219320"/>
                <a:gridCol w="1361880"/>
              </a:tblGrid>
              <a:tr h="9028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 (kgs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ze                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79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021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8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8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7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4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8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6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9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mon Beans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8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   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9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s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8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7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7772400" cy="4540320"/>
        </p:xfrm>
        <a:graphic>
          <a:graphicData uri="http://schemas.openxmlformats.org/drawingml/2006/table">
            <a:tbl>
              <a:tblPr/>
              <a:tblGrid>
                <a:gridCol w="1447920"/>
                <a:gridCol w="1928520"/>
                <a:gridCol w="1036800"/>
                <a:gridCol w="1122480"/>
                <a:gridCol w="1055520"/>
                <a:gridCol w="1181160"/>
              </a:tblGrid>
              <a:tr h="5493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3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Calibri"/>
                          <a:ea typeface="Calibri"/>
                        </a:rPr>
                        <a:t>4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2209680"/>
          <a:ext cx="7772400" cy="3154320"/>
        </p:xfrm>
        <a:graphic>
          <a:graphicData uri="http://schemas.openxmlformats.org/drawingml/2006/table">
            <a:tbl>
              <a:tblPr/>
              <a:tblGrid>
                <a:gridCol w="1371600"/>
                <a:gridCol w="2004840"/>
                <a:gridCol w="1036800"/>
                <a:gridCol w="1122480"/>
                <a:gridCol w="1055520"/>
                <a:gridCol w="1181160"/>
              </a:tblGrid>
              <a:tr h="7779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7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4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8:23:30Z</dcterms:created>
  <dc:creator>Mwangi</dc:creator>
  <dc:description/>
  <dc:language>en-US</dc:language>
  <cp:lastModifiedBy>Bekunda</cp:lastModifiedBy>
  <dcterms:modified xsi:type="dcterms:W3CDTF">2013-05-28T12:25:38Z</dcterms:modified>
  <cp:revision>216</cp:revision>
  <dc:subject/>
  <dc:title>The Drought Tolerant Maize for Africa Project</dc:title>
</cp:coreProperties>
</file>